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13.png" ContentType="image/png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1C0-D7F7-468D-A464-11E029E6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1F7-B067-4492-AFDB-6B32E550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749-BF2D-45AC-B154-36A67136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830-45D5-46B8-B205-9BF0B49B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AB60-2E0C-467D-9E6A-5CB784BB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C919-B82C-4966-9F41-57899407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4104-0173-4D74-B71A-ACC372B9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5239-8C8D-408D-B2FF-67710362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3E69-AE44-49CF-B4C6-CD93AEB8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B49E-0BFC-4600-B041-D0811D81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10D-A3B8-42B3-9707-8A6A5D9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5D8-463F-4CE7-B40F-060CD780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A9F3-BD32-4A9C-BC39-38051E4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3183-AF64-4C69-8DE8-EB0D034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6B5A-0D10-4153-8535-831714C8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D70A-1AA4-4FA3-9505-AD4291DE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28C6-10AC-407C-A4FF-62CFB4C8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19E-348D-43EB-8675-17F55544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4EC-B694-414E-8DD8-4F6992DF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3FA-BFC5-420D-84E4-CBD0B1F5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422-9277-43E2-857B-C69E1805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329-2036-4AE7-A856-1511E0C5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200-BF8B-43E8-BB72-BB4130AF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667-AD7D-433C-B76D-5080F347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51B0-F87F-4860-8BA1-F574054057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3415-0CFA-4616-BC44-3F1F777187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10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ime and Global Stat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u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6600" y="1865160"/>
            <a:ext cx="87976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handy and Lamport’s ‘snapshot’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8480" y="1550880"/>
            <a:ext cx="867996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 receiving rule for process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receipt of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over 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 yet recorded its state)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its process state n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the st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empty s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s on recording of messages arriving over other incoming channe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ords the st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set of messages it has received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t saved its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 sending rule for process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recorded its state, for each outgoing 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nds one marker message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fore it sends any other message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processes and their initial stat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52320" y="2195640"/>
            <a:ext cx="87487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execution of the processes in Figure 10.1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87520" y="1539720"/>
            <a:ext cx="870084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eachability between states in the snapshot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7400" y="1841400"/>
            <a:ext cx="87314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ctor timestamps and variable values for the execution of Figure 10.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73200" y="1739880"/>
            <a:ext cx="87249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lattice of global states for the execution of Figure 10.14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0800" y="1650960"/>
            <a:ext cx="8751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s to evaluat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ossibly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efinitely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79480" y="1251000"/>
            <a:ext cx="75610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aluating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efinitely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85720" y="1841400"/>
            <a:ext cx="87091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kew between computer clocks in a distributed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2800" y="2685960"/>
            <a:ext cx="890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lock synchronization using a time 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96960" y="2387520"/>
            <a:ext cx="8308800" cy="2005560"/>
            <a:chOff x="696960" y="2387520"/>
            <a:chExt cx="8308800" cy="2005560"/>
          </a:xfrm>
        </p:grpSpPr>
        <p:sp>
          <p:nvSpPr>
            <p:cNvPr id="91" name=""/>
            <p:cNvSpPr/>
            <p:nvPr/>
          </p:nvSpPr>
          <p:spPr>
            <a:xfrm>
              <a:off x="696960" y="2387520"/>
              <a:ext cx="2054160" cy="1501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6960" y="2387520"/>
              <a:ext cx="2084400" cy="1532160"/>
            </a:xfrm>
            <a:prstGeom prst="rect">
              <a:avLst/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19920" y="2387520"/>
              <a:ext cx="2054160" cy="15019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9920" y="2387520"/>
              <a:ext cx="2085840" cy="1532160"/>
            </a:xfrm>
            <a:prstGeom prst="rect">
              <a:avLst/>
            </a:prstGeom>
            <a:noFill/>
            <a:ln w="442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17520" y="2631960"/>
              <a:ext cx="1013040" cy="10112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05720" y="27543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5720" y="27543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8400" y="2846520"/>
              <a:ext cx="45673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68640" y="3336840"/>
              <a:ext cx="245880" cy="24624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68640" y="3336840"/>
              <a:ext cx="245880" cy="24624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414160" y="3459240"/>
              <a:ext cx="524196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43760" y="2786040"/>
              <a:ext cx="1220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3760" y="2786040"/>
              <a:ext cx="15228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88200" y="2786040"/>
              <a:ext cx="1224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88200" y="2786040"/>
              <a:ext cx="15408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13120" y="2786040"/>
              <a:ext cx="619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13120" y="2786040"/>
              <a:ext cx="92160" cy="2142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13120" y="3368520"/>
              <a:ext cx="61920" cy="2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13120" y="3368520"/>
              <a:ext cx="92160" cy="24480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2280" y="2631960"/>
              <a:ext cx="981000" cy="1011240"/>
            </a:xfrm>
            <a:prstGeom prst="ellipse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95040" y="240192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3320" y="2514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37880" y="36892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3000" y="38019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28720" y="4025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50320" y="4087800"/>
              <a:ext cx="15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 server,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n example synchronization subnet in an NTP implement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92160" y="1550880"/>
            <a:ext cx="8075520" cy="4318560"/>
            <a:chOff x="992160" y="1550880"/>
            <a:chExt cx="8075520" cy="4318560"/>
          </a:xfrm>
        </p:grpSpPr>
        <p:sp>
          <p:nvSpPr>
            <p:cNvPr id="119" name=""/>
            <p:cNvSpPr/>
            <p:nvPr/>
          </p:nvSpPr>
          <p:spPr>
            <a:xfrm>
              <a:off x="2230200" y="4176720"/>
              <a:ext cx="12564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63" y="16"/>
                  </a:moveTo>
                  <a:lnTo>
                    <a:pt x="79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330280" y="3625920"/>
              <a:ext cx="574560" cy="5760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55840" y="4201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16"/>
                  </a:moveTo>
                  <a:lnTo>
                    <a:pt x="31" y="0"/>
                  </a:lnTo>
                  <a:lnTo>
                    <a:pt x="63" y="63"/>
                  </a:lnTo>
                  <a:lnTo>
                    <a:pt x="0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0600" y="3651120"/>
              <a:ext cx="525240" cy="550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81360" y="282564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3" y="16"/>
                  </a:moveTo>
                  <a:lnTo>
                    <a:pt x="78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781080" y="2351160"/>
              <a:ext cx="623880" cy="5000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30920" y="280188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15"/>
                  </a:moveTo>
                  <a:lnTo>
                    <a:pt x="16" y="0"/>
                  </a:lnTo>
                  <a:lnTo>
                    <a:pt x="63" y="63"/>
                  </a:lnTo>
                  <a:lnTo>
                    <a:pt x="0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6000" y="2351160"/>
              <a:ext cx="574920" cy="4507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56520" y="4151160"/>
              <a:ext cx="12528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6" y="16"/>
                  </a:moveTo>
                  <a:lnTo>
                    <a:pt x="31" y="0"/>
                  </a:lnTo>
                  <a:lnTo>
                    <a:pt x="79" y="79"/>
                  </a:lnTo>
                  <a:lnTo>
                    <a:pt x="0" y="32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05360" y="3625920"/>
              <a:ext cx="576360" cy="5508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05240" y="1550880"/>
              <a:ext cx="1050840" cy="10256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55800" y="2776320"/>
              <a:ext cx="1025640" cy="10256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05360" y="2776320"/>
              <a:ext cx="1050840" cy="10256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80960" y="4201920"/>
              <a:ext cx="1023840" cy="10256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30640" y="4201920"/>
              <a:ext cx="1000080" cy="10256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81640" y="4201920"/>
              <a:ext cx="1024200" cy="10256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66760" y="2012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17320" y="3238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41040" y="4664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6880" y="3238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92160" y="4664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41720" y="4664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2160" y="5564160"/>
              <a:ext cx="807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ote: Arrows denote synchronization control, numbers denote stra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ssages exchanged between a pair of NTP pe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19080" y="2278080"/>
            <a:ext cx="8362440" cy="2684520"/>
            <a:chOff x="919080" y="2278080"/>
            <a:chExt cx="8362440" cy="2684520"/>
          </a:xfrm>
        </p:grpSpPr>
        <p:sp>
          <p:nvSpPr>
            <p:cNvPr id="144" name=""/>
            <p:cNvSpPr/>
            <p:nvPr/>
          </p:nvSpPr>
          <p:spPr>
            <a:xfrm>
              <a:off x="7856640" y="2919240"/>
              <a:ext cx="88920" cy="14796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380360" y="3066840"/>
              <a:ext cx="50472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8240" y="4165560"/>
              <a:ext cx="88920" cy="14940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19" y="0"/>
                  </a:moveTo>
                  <a:lnTo>
                    <a:pt x="37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2200" y="2859120"/>
              <a:ext cx="47628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7800" y="2919240"/>
              <a:ext cx="88920" cy="14796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341520" y="3066840"/>
              <a:ext cx="50508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7480" y="4165560"/>
              <a:ext cx="88920" cy="14940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37" y="0"/>
                  </a:moveTo>
                  <a:lnTo>
                    <a:pt x="56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2859120"/>
              <a:ext cx="32688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9080" y="4373640"/>
              <a:ext cx="736452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36720" y="2278080"/>
              <a:ext cx="7364160" cy="563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9800" y="2830680"/>
              <a:ext cx="149400" cy="8856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18"/>
                  </a:moveTo>
                  <a:lnTo>
                    <a:pt x="0" y="0"/>
                  </a:lnTo>
                  <a:lnTo>
                    <a:pt x="94" y="18"/>
                  </a:lnTo>
                  <a:lnTo>
                    <a:pt x="0" y="5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36720" y="2859120"/>
              <a:ext cx="7453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9800" y="4314960"/>
              <a:ext cx="149400" cy="8892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37"/>
                  </a:moveTo>
                  <a:lnTo>
                    <a:pt x="0" y="0"/>
                  </a:lnTo>
                  <a:lnTo>
                    <a:pt x="94" y="37"/>
                  </a:lnTo>
                  <a:lnTo>
                    <a:pt x="0" y="5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6720" y="4357800"/>
              <a:ext cx="7472160" cy="15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05720" y="46260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8640" y="47340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83280" y="25178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2640" y="2625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57680" y="25178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99160" y="262584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15720" y="26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81400" y="46260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24680" y="47340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9440" y="47340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1840" y="4734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8520" y="251784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8520" y="462600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44400" y="275436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8640" y="34671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75920" y="3467160"/>
              <a:ext cx="24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744400" y="429912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ents occurring at three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4800" y="2028960"/>
            <a:ext cx="86695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0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Lamport timestamps for the events shown in Figure 10.5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41520" y="1843200"/>
            <a:ext cx="870408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ctor timestamps for the events shown in Figure 10.5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5960" y="1789200"/>
            <a:ext cx="8650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0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ecting global propert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65080" y="1325520"/>
            <a:ext cx="7858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0-11-22T12:46:31Z</dcterms:modified>
  <cp:revision>50</cp:revision>
  <dc:subject/>
  <dc:title>Figure 15.1 A distributed multimedia system</dc:title>
</cp:coreProperties>
</file>